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4F8-8790-4A5E-9A33-288293B5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716-D7BB-455B-B5D6-138ECF3D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FC4-672F-4852-8DC4-F6D712B4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F88-6390-4263-808F-5072607A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C7C-8640-42C8-A28E-7AAD23CA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EC1-4D66-4F87-8167-5AD04190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B509-8E87-40BE-8CD6-7465A191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8C4-1B9A-4918-81ED-55E74F03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A36-6B87-4D3E-A658-C1F00587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4F2-4A83-4953-A3E5-DD55C12F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44E-D0CA-4958-ACCF-69A01A06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D57-3902-4386-A39C-DCF86FEC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E3BA-C8A0-4CF9-A09C-B4DB07B63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ttice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3276720"/>
            <a:ext cx="2971800" cy="25556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3 * 5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486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5486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5486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771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943600" y="5486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2900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29528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3962520"/>
            <a:ext cx="655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2514600"/>
            <a:ext cx="144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2514600"/>
            <a:ext cx="1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add the diagonals and place the answer below the grid.  Be sure to carry to the next diagonal if you have a 2 digit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43600" y="5486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95280" y="5410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17524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56 * 2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3048120"/>
            <a:ext cx="379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8,9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724280" y="2971800"/>
            <a:ext cx="3175200" cy="3524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5638680" y="304920"/>
            <a:ext cx="3200400" cy="2133360"/>
          </a:xfrm>
          <a:prstGeom prst="wedgeEllipseCallout">
            <a:avLst>
              <a:gd name="adj1" fmla="val -14037"/>
              <a:gd name="adj2" fmla="val 69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Soooo Cool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7160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56 * 25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3276720" cy="316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2819520"/>
            <a:ext cx="2438280" cy="1676160"/>
          </a:xfrm>
          <a:prstGeom prst="wedgeEllipseCallout">
            <a:avLst>
              <a:gd name="adj1" fmla="val -73370"/>
              <a:gd name="adj2" fmla="val 457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on’t remember how to multipl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048120" cy="2878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05520" y="2666880"/>
            <a:ext cx="2719440" cy="2940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90720" y="533520"/>
            <a:ext cx="2209680" cy="914400"/>
          </a:xfrm>
          <a:prstGeom prst="wedgeEllipseCallout">
            <a:avLst>
              <a:gd name="adj1" fmla="val 3162"/>
              <a:gd name="adj2" fmla="val 987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380880"/>
            <a:ext cx="4038480" cy="1981440"/>
          </a:xfrm>
          <a:prstGeom prst="wedgeEllipseCallout">
            <a:avLst>
              <a:gd name="adj1" fmla="val -3106"/>
              <a:gd name="adj2" fmla="val 63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an help!!  Let me show you how to do Lattice Multi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1430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grid the exact size of your problem.  A 2 digit number times a 3 digit number gets a 2 x 3 grid.  Draw a diagonal line in each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6 * 2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99072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5 * 2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0666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3 * 2 and place the answer in the grid where the lines meet.  Use a zero as a place h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6 * 5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6 *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514600"/>
            <a:ext cx="655308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251460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28600" y="2514600"/>
            <a:ext cx="32004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04920" y="2514600"/>
            <a:ext cx="533376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828800" y="2514600"/>
            <a:ext cx="594360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19360" y="3962520"/>
            <a:ext cx="33526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52388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16002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16765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2895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41911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3048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29718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25146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30481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251460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295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5 * 5 and place the answer in the grid where the lines m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4197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39625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9:03:51Z</dcterms:created>
  <dc:creator>reynoldskathleen</dc:creator>
  <dc:description/>
  <dc:language>en-US</dc:language>
  <cp:lastModifiedBy>reynoldskathleen</cp:lastModifiedBy>
  <dcterms:modified xsi:type="dcterms:W3CDTF">2006-10-23T22:30:33Z</dcterms:modified>
  <cp:revision>6</cp:revision>
  <dc:subject/>
  <dc:title>Lattice Multiplication</dc:title>
</cp:coreProperties>
</file>